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D04-C51D-455C-BCE7-9D939AFD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C53-8AC1-43AA-AB63-18104C9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DA6-69CB-4D0A-8B2E-449B6BD8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031-F0BA-438C-8E74-3DAAEDDE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D29-4572-4EB9-AD35-B6E9F7D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B2C-9795-4768-88F4-A46F1B9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552-1D92-40D2-A2B1-537001E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E1F-4EA1-4BD8-8432-E21BA12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D2B-6733-4E1C-89A4-8C235E0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79C-80C1-4D13-9700-BEFD023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48C-25AD-49A7-9923-3ED67C8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2B1-EC6E-42A2-8640-9154046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619-B496-4A33-A1A1-1C286915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9600"/>
            </a:b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Tahoma"/>
              </a:rPr>
              <a:t>قادي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ب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03Z</dcterms:created>
  <dc:creator>Charbel Azar</dc:creator>
  <dc:description/>
  <dc:language>en-US</dc:language>
  <cp:lastModifiedBy>Charbel Azar</cp:lastModifiedBy>
  <dcterms:modified xsi:type="dcterms:W3CDTF">2002-02-08T21:10:14Z</dcterms:modified>
  <cp:revision>1</cp:revision>
  <dc:subject/>
  <dc:title>PowerPoint Presentation</dc:title>
</cp:coreProperties>
</file>